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6012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FA0-8F7B-4268-B765-8F367C9B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155-608B-4B55-9D58-0B8A3EEB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46B-EF01-43C2-B134-64FEA9E7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EF4-7DCC-4C7A-B4E6-62FADFA0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EC17-3609-46DC-B2FB-93E8EA42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2F4-AF3C-472B-85B0-0538A12B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8A2-4540-4C27-9CAA-C9FA196F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880-C7CA-4F28-A7E8-5542BD2E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609120"/>
            <a:ext cx="815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48A-DEF5-4F19-B331-08C6E93A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789-5498-4F84-96AD-64D9AFD0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ECA-156D-44EC-BCFF-403D2610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C78-CB87-45A5-888F-B99C32FE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248520"/>
            <a:ext cx="304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1033-99F1-4705-8C52-98A49B885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2286000" cy="31989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East I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Rail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Bookman Old Style"/>
              </a:rPr>
              <a:t>Treno Espresso</a:t>
            </a: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Un tren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di livello 6 che consegna su que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tratta diretta Delhi-Calcutta  = 6p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Delhi, Lucknow, Benar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Patna, Calcu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3429000"/>
            <a:ext cx="2286000" cy="31989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adras &amp; S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ahratta 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Bookman Old Style"/>
              </a:rPr>
              <a:t>Railroad Hotel</a:t>
            </a: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Un punto extra per og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Tua consegna a Mad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Madras, Hyderab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Bangal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28600"/>
            <a:ext cx="2286000" cy="31989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Great I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Peninsula 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Bookman Old Style"/>
              </a:rPr>
              <a:t>Ingeniere di Montag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Costruisci sulle montagne i segme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connessi a Bombay a metà prezz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Bombay, Del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Cawnpore, Allahab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429000"/>
            <a:ext cx="2286000" cy="31989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Bombay, Bar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&amp; Cen. India 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Bookman Old Style"/>
              </a:rPr>
              <a:t>Railroad Hotel</a:t>
            </a: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Un punto extra per ogn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Tua consegna a Bomb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Bombay, Delhi, Jaipu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Ajmer, Ahmadab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86600" y="3429000"/>
            <a:ext cx="2286000" cy="31989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Bengal Ass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Rail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Bookman Old Style"/>
              </a:rPr>
              <a:t>Ingeniere dell’Himalaya </a:t>
            </a: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Costruisci i segmenti sull’Himalay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delle tratte connesse a Calcutt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a metà prezz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Calcutta, Chittag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3429000"/>
            <a:ext cx="2286000" cy="31989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South I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Rail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Bookman Old Style"/>
              </a:rPr>
              <a:t>Railroad Hotel</a:t>
            </a: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Un punto extra per ogn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Tua consegna a Mys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Madras, Mys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Trichino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228600"/>
            <a:ext cx="2286000" cy="31989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Bengal Nagp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Rail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Bookman Old Style"/>
              </a:rPr>
              <a:t>Perfetto Ingeniere </a:t>
            </a: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Costruisci 4 segm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Calcutta, Nagp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Hyderab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228600"/>
            <a:ext cx="2286000" cy="31989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orth Wes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Rail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Ingeniere dell’Himala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Costruisci i segmenti sull’Himalay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delle tratte connesse a Delh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man Old Style"/>
              </a:rPr>
              <a:t>a metà prezz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Delhi, Lahore, Mult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Peshawa, Karac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57200" y="914400"/>
            <a:ext cx="1752480" cy="380880"/>
            <a:chOff x="457200" y="914400"/>
            <a:chExt cx="1752480" cy="380880"/>
          </a:xfrm>
        </p:grpSpPr>
        <p:sp>
          <p:nvSpPr>
            <p:cNvPr id="50" name=""/>
            <p:cNvSpPr/>
            <p:nvPr/>
          </p:nvSpPr>
          <p:spPr>
            <a:xfrm>
              <a:off x="1676520" y="914400"/>
              <a:ext cx="5331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914400"/>
              <a:ext cx="10666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12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743200" y="914400"/>
            <a:ext cx="1828800" cy="380880"/>
            <a:chOff x="2743200" y="914400"/>
            <a:chExt cx="1828800" cy="380880"/>
          </a:xfrm>
        </p:grpSpPr>
        <p:sp>
          <p:nvSpPr>
            <p:cNvPr id="53" name=""/>
            <p:cNvSpPr/>
            <p:nvPr/>
          </p:nvSpPr>
          <p:spPr>
            <a:xfrm>
              <a:off x="4038840" y="914400"/>
              <a:ext cx="5331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3200" y="914400"/>
              <a:ext cx="106704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11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33520" y="4114800"/>
            <a:ext cx="1752480" cy="380880"/>
            <a:chOff x="533520" y="4114800"/>
            <a:chExt cx="1752480" cy="380880"/>
          </a:xfrm>
        </p:grpSpPr>
        <p:sp>
          <p:nvSpPr>
            <p:cNvPr id="56" name=""/>
            <p:cNvSpPr/>
            <p:nvPr/>
          </p:nvSpPr>
          <p:spPr>
            <a:xfrm>
              <a:off x="1752480" y="4114800"/>
              <a:ext cx="5335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4114800"/>
              <a:ext cx="10666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8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743200" y="4114800"/>
            <a:ext cx="1828440" cy="380880"/>
            <a:chOff x="2743200" y="4114800"/>
            <a:chExt cx="1828440" cy="380880"/>
          </a:xfrm>
        </p:grpSpPr>
        <p:sp>
          <p:nvSpPr>
            <p:cNvPr id="59" name=""/>
            <p:cNvSpPr/>
            <p:nvPr/>
          </p:nvSpPr>
          <p:spPr>
            <a:xfrm>
              <a:off x="4015080" y="4114800"/>
              <a:ext cx="5565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43200" y="4114800"/>
              <a:ext cx="111312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5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105520" y="4114800"/>
            <a:ext cx="1752480" cy="380880"/>
            <a:chOff x="5105520" y="4114800"/>
            <a:chExt cx="1752480" cy="380880"/>
          </a:xfrm>
        </p:grpSpPr>
        <p:sp>
          <p:nvSpPr>
            <p:cNvPr id="62" name=""/>
            <p:cNvSpPr/>
            <p:nvPr/>
          </p:nvSpPr>
          <p:spPr>
            <a:xfrm>
              <a:off x="6324480" y="4114800"/>
              <a:ext cx="5335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05520" y="4114800"/>
              <a:ext cx="10666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4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7315200" y="4114800"/>
            <a:ext cx="1752480" cy="380880"/>
            <a:chOff x="7315200" y="4114800"/>
            <a:chExt cx="1752480" cy="380880"/>
          </a:xfrm>
        </p:grpSpPr>
        <p:sp>
          <p:nvSpPr>
            <p:cNvPr id="65" name=""/>
            <p:cNvSpPr/>
            <p:nvPr/>
          </p:nvSpPr>
          <p:spPr>
            <a:xfrm>
              <a:off x="8534520" y="4114800"/>
              <a:ext cx="5331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15200" y="4114800"/>
              <a:ext cx="10666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6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029200" y="914400"/>
            <a:ext cx="1828440" cy="380880"/>
            <a:chOff x="5029200" y="914400"/>
            <a:chExt cx="1828440" cy="380880"/>
          </a:xfrm>
        </p:grpSpPr>
        <p:sp>
          <p:nvSpPr>
            <p:cNvPr id="68" name=""/>
            <p:cNvSpPr/>
            <p:nvPr/>
          </p:nvSpPr>
          <p:spPr>
            <a:xfrm>
              <a:off x="6301080" y="914400"/>
              <a:ext cx="5565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29200" y="914400"/>
              <a:ext cx="111312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9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391520" y="914400"/>
            <a:ext cx="1752480" cy="380880"/>
            <a:chOff x="7391520" y="914400"/>
            <a:chExt cx="1752480" cy="380880"/>
          </a:xfrm>
        </p:grpSpPr>
        <p:sp>
          <p:nvSpPr>
            <p:cNvPr id="71" name=""/>
            <p:cNvSpPr/>
            <p:nvPr/>
          </p:nvSpPr>
          <p:spPr>
            <a:xfrm>
              <a:off x="8610480" y="914400"/>
              <a:ext cx="5335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1520" y="914400"/>
              <a:ext cx="10666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8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85800" y="5181480"/>
            <a:ext cx="1371600" cy="990720"/>
            <a:chOff x="685800" y="5181480"/>
            <a:chExt cx="1371600" cy="9907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685800" y="5181480"/>
              <a:ext cx="13716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101240" y="581040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3440" y="530748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82800" y="558000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14400" y="544176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89640" y="537912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971800" y="5181480"/>
            <a:ext cx="1371600" cy="990720"/>
            <a:chOff x="2971800" y="5181480"/>
            <a:chExt cx="1371600" cy="99072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2971800" y="5181480"/>
              <a:ext cx="13716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751200" y="592848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74160" y="594036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15840" y="584064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257800" y="5181480"/>
            <a:ext cx="1371600" cy="990360"/>
            <a:chOff x="5257800" y="5181480"/>
            <a:chExt cx="1371600" cy="99036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5257800" y="5181480"/>
              <a:ext cx="1371600" cy="98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014880" y="5907240"/>
              <a:ext cx="12456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57640" y="6058080"/>
              <a:ext cx="12456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30640" y="6005880"/>
              <a:ext cx="12456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7537320" y="5229360"/>
            <a:ext cx="1295640" cy="990360"/>
            <a:chOff x="7537320" y="5229360"/>
            <a:chExt cx="1295640" cy="990360"/>
          </a:xfrm>
        </p:grpSpPr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7537320" y="5229360"/>
              <a:ext cx="129564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521200" y="5453640"/>
              <a:ext cx="1173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67000" y="5446440"/>
              <a:ext cx="117720" cy="114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96960" y="1844640"/>
            <a:ext cx="1371600" cy="990720"/>
            <a:chOff x="696960" y="1844640"/>
            <a:chExt cx="1371600" cy="990720"/>
          </a:xfrm>
        </p:grpSpPr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696960" y="1844640"/>
              <a:ext cx="13716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7920" y="196812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3880" y="199800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17680" y="198360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2800" y="197640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17560" y="203544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000240" y="1916280"/>
            <a:ext cx="1371600" cy="990360"/>
            <a:chOff x="3000240" y="1916280"/>
            <a:chExt cx="1371600" cy="990360"/>
          </a:xfrm>
        </p:grpSpPr>
        <p:pic>
          <p:nvPicPr>
            <p:cNvPr id="102" name="" descr=""/>
            <p:cNvPicPr/>
            <p:nvPr/>
          </p:nvPicPr>
          <p:blipFill>
            <a:blip r:embed="rId6"/>
            <a:stretch/>
          </p:blipFill>
          <p:spPr>
            <a:xfrm>
              <a:off x="3000240" y="1916280"/>
              <a:ext cx="13716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383280" y="2529360"/>
              <a:ext cx="124560" cy="114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7840" y="2092680"/>
              <a:ext cx="124560" cy="114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63720" y="211392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1960" y="2004840"/>
              <a:ext cx="124560" cy="114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32240" y="1989000"/>
            <a:ext cx="1371600" cy="990360"/>
            <a:chOff x="5232240" y="1989000"/>
            <a:chExt cx="1371600" cy="990360"/>
          </a:xfrm>
        </p:grpSpPr>
        <p:pic>
          <p:nvPicPr>
            <p:cNvPr id="108" name="" descr=""/>
            <p:cNvPicPr/>
            <p:nvPr/>
          </p:nvPicPr>
          <p:blipFill>
            <a:blip r:embed="rId7"/>
            <a:stretch/>
          </p:blipFill>
          <p:spPr>
            <a:xfrm>
              <a:off x="5232240" y="2001960"/>
              <a:ext cx="1371600" cy="97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607360" y="2099160"/>
              <a:ext cx="12456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26920" y="2443680"/>
              <a:ext cx="12456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0880" y="2160720"/>
              <a:ext cx="12456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25560" y="1989000"/>
              <a:ext cx="12456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07120" y="2000520"/>
              <a:ext cx="12456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543800" y="1981080"/>
            <a:ext cx="1371600" cy="990720"/>
            <a:chOff x="7543800" y="1981080"/>
            <a:chExt cx="1371600" cy="990720"/>
          </a:xfrm>
        </p:grpSpPr>
        <p:pic>
          <p:nvPicPr>
            <p:cNvPr id="115" name="" descr=""/>
            <p:cNvPicPr/>
            <p:nvPr/>
          </p:nvPicPr>
          <p:blipFill>
            <a:blip r:embed="rId8"/>
            <a:stretch/>
          </p:blipFill>
          <p:spPr>
            <a:xfrm>
              <a:off x="7543800" y="1981080"/>
              <a:ext cx="13716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575200" y="216000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63000" y="259344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36000" y="2445480"/>
              <a:ext cx="124560" cy="11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1199880" cy="32400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2514600" y="228600"/>
            <a:ext cx="2286000" cy="3198960"/>
            <a:chOff x="2514600" y="228600"/>
            <a:chExt cx="2286000" cy="3198960"/>
          </a:xfrm>
        </p:grpSpPr>
        <p:sp>
          <p:nvSpPr>
            <p:cNvPr id="121" name=""/>
            <p:cNvSpPr/>
            <p:nvPr/>
          </p:nvSpPr>
          <p:spPr>
            <a:xfrm>
              <a:off x="2514600" y="2286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Perfect Engine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Disponi un segmento extr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in una singola azion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Solo una volta per turno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Devi pagare il segmento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3048120" y="1066680"/>
              <a:ext cx="12762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267080" y="3094200"/>
              <a:ext cx="304920" cy="304560"/>
            </a:xfrm>
            <a:prstGeom prst="diamond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28600" y="228600"/>
            <a:ext cx="2286000" cy="3198960"/>
            <a:chOff x="228600" y="228600"/>
            <a:chExt cx="2286000" cy="3198960"/>
          </a:xfrm>
        </p:grpSpPr>
        <p:sp>
          <p:nvSpPr>
            <p:cNvPr id="125" name=""/>
            <p:cNvSpPr/>
            <p:nvPr/>
          </p:nvSpPr>
          <p:spPr>
            <a:xfrm>
              <a:off x="228600" y="2286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Railroad Execu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Il giocatore che prende que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carta può fare Due azio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immediatament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700000">
              <a:off x="2133720" y="3048120"/>
              <a:ext cx="304560" cy="304560"/>
            </a:xfrm>
            <a:prstGeom prst="plus">
              <a:avLst>
                <a:gd name="adj" fmla="val 41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914400" y="1219320"/>
              <a:ext cx="990720" cy="82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228600" y="3429000"/>
            <a:ext cx="2286000" cy="3198960"/>
            <a:chOff x="228600" y="3429000"/>
            <a:chExt cx="2286000" cy="3198960"/>
          </a:xfrm>
        </p:grpSpPr>
        <p:sp>
          <p:nvSpPr>
            <p:cNvPr id="129" name=""/>
            <p:cNvSpPr/>
            <p:nvPr/>
          </p:nvSpPr>
          <p:spPr>
            <a:xfrm>
              <a:off x="228600" y="34290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Railroad Execu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Il giocatore che prende que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carta può fare Due azio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immediatament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700000">
              <a:off x="2133720" y="6248520"/>
              <a:ext cx="304560" cy="304560"/>
            </a:xfrm>
            <a:prstGeom prst="plus">
              <a:avLst>
                <a:gd name="adj" fmla="val 41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4"/>
            <a:stretch/>
          </p:blipFill>
          <p:spPr>
            <a:xfrm>
              <a:off x="914400" y="4419720"/>
              <a:ext cx="990720" cy="82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2514600" y="3429000"/>
            <a:ext cx="2286000" cy="3198960"/>
            <a:chOff x="2514600" y="3429000"/>
            <a:chExt cx="2286000" cy="3198960"/>
          </a:xfrm>
        </p:grpSpPr>
        <p:sp>
          <p:nvSpPr>
            <p:cNvPr id="133" name=""/>
            <p:cNvSpPr/>
            <p:nvPr/>
          </p:nvSpPr>
          <p:spPr>
            <a:xfrm>
              <a:off x="2514600" y="34290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Perfect Engine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Disponi un segmento ext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in una singola azion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Solo una volta per turno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Devi pagare il segmento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5"/>
            <a:stretch/>
          </p:blipFill>
          <p:spPr>
            <a:xfrm>
              <a:off x="3048120" y="4267080"/>
              <a:ext cx="1199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6"/>
            <a:stretch/>
          </p:blipFill>
          <p:spPr>
            <a:xfrm>
              <a:off x="3048120" y="4267080"/>
              <a:ext cx="12762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267080" y="6294600"/>
              <a:ext cx="304920" cy="304560"/>
            </a:xfrm>
            <a:prstGeom prst="diamond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800600" y="3429000"/>
            <a:ext cx="2286000" cy="3198960"/>
            <a:chOff x="4800600" y="3429000"/>
            <a:chExt cx="2286000" cy="3198960"/>
          </a:xfrm>
        </p:grpSpPr>
        <p:sp>
          <p:nvSpPr>
            <p:cNvPr id="138" name=""/>
            <p:cNvSpPr/>
            <p:nvPr/>
          </p:nvSpPr>
          <p:spPr>
            <a:xfrm>
              <a:off x="4800600" y="34290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New Indu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Piazza immediatamente 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esagono “New City” in u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Città grigia a tua scel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NON aggiungere mer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lla cit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700000">
              <a:off x="6705720" y="6248520"/>
              <a:ext cx="304560" cy="304560"/>
            </a:xfrm>
            <a:prstGeom prst="plus">
              <a:avLst>
                <a:gd name="adj" fmla="val 41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7"/>
            <a:stretch/>
          </p:blipFill>
          <p:spPr>
            <a:xfrm>
              <a:off x="5334120" y="4343400"/>
              <a:ext cx="11998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4800600" y="228600"/>
            <a:ext cx="2286000" cy="3198960"/>
            <a:chOff x="4800600" y="228600"/>
            <a:chExt cx="2286000" cy="3198960"/>
          </a:xfrm>
        </p:grpSpPr>
        <p:sp>
          <p:nvSpPr>
            <p:cNvPr id="142" name=""/>
            <p:cNvSpPr/>
            <p:nvPr/>
          </p:nvSpPr>
          <p:spPr>
            <a:xfrm>
              <a:off x="4800600" y="2286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New Indu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Piazza immediatamente 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esagono “New City” in u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Città grigia a tua scelta.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NON aggiungere mer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lla città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700000">
              <a:off x="6705720" y="3048120"/>
              <a:ext cx="304560" cy="304560"/>
            </a:xfrm>
            <a:prstGeom prst="plus">
              <a:avLst>
                <a:gd name="adj" fmla="val 41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8"/>
            <a:stretch/>
          </p:blipFill>
          <p:spPr>
            <a:xfrm>
              <a:off x="5334120" y="1143000"/>
              <a:ext cx="11998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7086600" y="3429000"/>
            <a:ext cx="2286000" cy="3198960"/>
            <a:chOff x="7086600" y="3429000"/>
            <a:chExt cx="2286000" cy="3198960"/>
          </a:xfrm>
        </p:grpSpPr>
        <p:sp>
          <p:nvSpPr>
            <p:cNvPr id="146" name=""/>
            <p:cNvSpPr/>
            <p:nvPr/>
          </p:nvSpPr>
          <p:spPr>
            <a:xfrm>
              <a:off x="7086600" y="34290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Urban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Piazza immediatamente 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esagono “New City” in u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città a tua scelta. Aggiung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nche due mer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lla città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700000">
              <a:off x="8991720" y="6248520"/>
              <a:ext cx="304560" cy="304560"/>
            </a:xfrm>
            <a:prstGeom prst="plus">
              <a:avLst>
                <a:gd name="adj" fmla="val 41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9"/>
            <a:stretch/>
          </p:blipFill>
          <p:spPr>
            <a:xfrm>
              <a:off x="8305920" y="4343400"/>
              <a:ext cx="9144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10"/>
            <a:stretch/>
          </p:blipFill>
          <p:spPr>
            <a:xfrm>
              <a:off x="7238880" y="4343400"/>
              <a:ext cx="914400" cy="82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7086600" y="228600"/>
            <a:ext cx="2286000" cy="3198960"/>
            <a:chOff x="7086600" y="228600"/>
            <a:chExt cx="2286000" cy="3198960"/>
          </a:xfrm>
        </p:grpSpPr>
        <p:sp>
          <p:nvSpPr>
            <p:cNvPr id="151" name=""/>
            <p:cNvSpPr/>
            <p:nvPr/>
          </p:nvSpPr>
          <p:spPr>
            <a:xfrm>
              <a:off x="7086600" y="2286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Perfect Engine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Disponi un segmento ext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in una singola azion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Solo una volta per turno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Devi pagare il segmento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1"/>
            <a:stretch/>
          </p:blipFill>
          <p:spPr>
            <a:xfrm>
              <a:off x="7620120" y="1066680"/>
              <a:ext cx="12762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839080" y="3094200"/>
              <a:ext cx="304920" cy="304560"/>
            </a:xfrm>
            <a:prstGeom prst="diamond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228600" y="228600"/>
            <a:ext cx="2286000" cy="3198960"/>
            <a:chOff x="228600" y="228600"/>
            <a:chExt cx="2286000" cy="3198960"/>
          </a:xfrm>
        </p:grpSpPr>
        <p:sp>
          <p:nvSpPr>
            <p:cNvPr id="155" name=""/>
            <p:cNvSpPr/>
            <p:nvPr/>
          </p:nvSpPr>
          <p:spPr>
            <a:xfrm>
              <a:off x="228600" y="2286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City Grow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ggiungi 2 nuove cas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 caso, in una città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di tua scel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700000">
              <a:off x="2133720" y="3048120"/>
              <a:ext cx="304560" cy="304560"/>
            </a:xfrm>
            <a:prstGeom prst="plus">
              <a:avLst>
                <a:gd name="adj" fmla="val 41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762120" y="1143000"/>
              <a:ext cx="1266840" cy="8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"/>
          <p:cNvGrpSpPr/>
          <p:nvPr/>
        </p:nvGrpSpPr>
        <p:grpSpPr>
          <a:xfrm>
            <a:off x="228600" y="3429000"/>
            <a:ext cx="2286000" cy="3198960"/>
            <a:chOff x="228600" y="3429000"/>
            <a:chExt cx="2286000" cy="3198960"/>
          </a:xfrm>
        </p:grpSpPr>
        <p:sp>
          <p:nvSpPr>
            <p:cNvPr id="159" name=""/>
            <p:cNvSpPr/>
            <p:nvPr/>
          </p:nvSpPr>
          <p:spPr>
            <a:xfrm>
              <a:off x="228600" y="34290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City Grow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ggiungi 2 nuove cas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 caso, in una città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di tua scel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700000">
              <a:off x="2133720" y="6248520"/>
              <a:ext cx="304560" cy="304560"/>
            </a:xfrm>
            <a:prstGeom prst="plus">
              <a:avLst>
                <a:gd name="adj" fmla="val 41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762120" y="4343400"/>
              <a:ext cx="1266840" cy="84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7086600" y="3429000"/>
            <a:ext cx="2286000" cy="319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Whistle 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uoi tenere una trat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ostruita parzialmen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la fine del turno.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514600" y="3429000"/>
            <a:ext cx="2286000" cy="3198960"/>
            <a:chOff x="2514600" y="3429000"/>
            <a:chExt cx="2286000" cy="3198960"/>
          </a:xfrm>
        </p:grpSpPr>
        <p:sp>
          <p:nvSpPr>
            <p:cNvPr id="164" name=""/>
            <p:cNvSpPr/>
            <p:nvPr/>
          </p:nvSpPr>
          <p:spPr>
            <a:xfrm>
              <a:off x="2514600" y="34290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Two City Grow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ggiungi 2 nuove cas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 caso, in ognuna di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differenti citt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di tua scel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700000">
              <a:off x="4419720" y="6248520"/>
              <a:ext cx="304560" cy="304560"/>
            </a:xfrm>
            <a:prstGeom prst="plus">
              <a:avLst>
                <a:gd name="adj" fmla="val 41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2666880" y="4343400"/>
              <a:ext cx="9144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3733920" y="4343400"/>
              <a:ext cx="914400" cy="8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2514600" y="228600"/>
            <a:ext cx="2286000" cy="3198960"/>
            <a:chOff x="2514600" y="228600"/>
            <a:chExt cx="2286000" cy="3198960"/>
          </a:xfrm>
        </p:grpSpPr>
        <p:sp>
          <p:nvSpPr>
            <p:cNvPr id="169" name=""/>
            <p:cNvSpPr/>
            <p:nvPr/>
          </p:nvSpPr>
          <p:spPr>
            <a:xfrm>
              <a:off x="2514600" y="2286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Company Tow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ggiungi 1 nuova cassa blu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gialla, viola o nera (a scelt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in una citt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di tua scelta.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700000">
              <a:off x="4419720" y="3048120"/>
              <a:ext cx="304560" cy="304560"/>
            </a:xfrm>
            <a:prstGeom prst="plus">
              <a:avLst>
                <a:gd name="adj" fmla="val 41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5"/>
            <a:stretch/>
          </p:blipFill>
          <p:spPr>
            <a:xfrm>
              <a:off x="3200400" y="114300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8991720" y="6095880"/>
            <a:ext cx="376200" cy="457200"/>
          </a:xfrm>
          <a:prstGeom prst="flowChartMulti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7467480" y="4343400"/>
            <a:ext cx="1500480" cy="97776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4800600" y="228600"/>
            <a:ext cx="2286000" cy="3198960"/>
            <a:chOff x="4800600" y="228600"/>
            <a:chExt cx="2286000" cy="3198960"/>
          </a:xfrm>
        </p:grpSpPr>
        <p:sp>
          <p:nvSpPr>
            <p:cNvPr id="175" name=""/>
            <p:cNvSpPr/>
            <p:nvPr/>
          </p:nvSpPr>
          <p:spPr>
            <a:xfrm>
              <a:off x="4800600" y="2286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City Grow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ggiungi 2 nuove cas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 caso, in una città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di tua scel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700000">
              <a:off x="6705720" y="3048120"/>
              <a:ext cx="304560" cy="304560"/>
            </a:xfrm>
            <a:prstGeom prst="plus">
              <a:avLst>
                <a:gd name="adj" fmla="val 41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7"/>
            <a:stretch/>
          </p:blipFill>
          <p:spPr>
            <a:xfrm>
              <a:off x="5334120" y="1143000"/>
              <a:ext cx="1266840" cy="8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"/>
          <p:cNvGrpSpPr/>
          <p:nvPr/>
        </p:nvGrpSpPr>
        <p:grpSpPr>
          <a:xfrm>
            <a:off x="7086600" y="228600"/>
            <a:ext cx="2286000" cy="3198960"/>
            <a:chOff x="7086600" y="228600"/>
            <a:chExt cx="2286000" cy="3198960"/>
          </a:xfrm>
        </p:grpSpPr>
        <p:sp>
          <p:nvSpPr>
            <p:cNvPr id="179" name=""/>
            <p:cNvSpPr/>
            <p:nvPr/>
          </p:nvSpPr>
          <p:spPr>
            <a:xfrm>
              <a:off x="7086600" y="2286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City Grow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ggiungi 2 nuove cas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 caso, in una città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di tua scelta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700000">
              <a:off x="8991720" y="3048120"/>
              <a:ext cx="304560" cy="304560"/>
            </a:xfrm>
            <a:prstGeom prst="plus">
              <a:avLst>
                <a:gd name="adj" fmla="val 41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8"/>
            <a:stretch/>
          </p:blipFill>
          <p:spPr>
            <a:xfrm>
              <a:off x="7620120" y="1143000"/>
              <a:ext cx="1266840" cy="8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4800600" y="3429000"/>
            <a:ext cx="2286000" cy="3198960"/>
            <a:chOff x="4800600" y="3429000"/>
            <a:chExt cx="2286000" cy="3198960"/>
          </a:xfrm>
        </p:grpSpPr>
        <p:sp>
          <p:nvSpPr>
            <p:cNvPr id="183" name=""/>
            <p:cNvSpPr/>
            <p:nvPr/>
          </p:nvSpPr>
          <p:spPr>
            <a:xfrm>
              <a:off x="4800600" y="34290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Company Tow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ggiungi 1 nuova cassa blu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gialla, viola o nera (a scelta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in una città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di tua scelta.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700000">
              <a:off x="6705720" y="6248520"/>
              <a:ext cx="304560" cy="304560"/>
            </a:xfrm>
            <a:prstGeom prst="plus">
              <a:avLst>
                <a:gd name="adj" fmla="val 41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9"/>
            <a:stretch/>
          </p:blipFill>
          <p:spPr>
            <a:xfrm>
              <a:off x="5486400" y="434340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2514600" y="3429000"/>
            <a:ext cx="2286000" cy="3200400"/>
            <a:chOff x="2514600" y="3429000"/>
            <a:chExt cx="2286000" cy="3200400"/>
          </a:xfrm>
        </p:grpSpPr>
        <p:sp>
          <p:nvSpPr>
            <p:cNvPr id="187" name=""/>
            <p:cNvSpPr/>
            <p:nvPr/>
          </p:nvSpPr>
          <p:spPr>
            <a:xfrm>
              <a:off x="2514600" y="34290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Exp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Passa attraverso una città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del colore della cass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che deve essere consegn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3048120" y="4419720"/>
              <a:ext cx="1238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343400" y="6172200"/>
              <a:ext cx="376200" cy="457200"/>
            </a:xfrm>
            <a:prstGeom prst="flowChartMultidocumen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00600" y="3429000"/>
            <a:ext cx="2286000" cy="3198960"/>
            <a:chOff x="4800600" y="3429000"/>
            <a:chExt cx="2286000" cy="3198960"/>
          </a:xfrm>
        </p:grpSpPr>
        <p:sp>
          <p:nvSpPr>
            <p:cNvPr id="191" name=""/>
            <p:cNvSpPr/>
            <p:nvPr/>
          </p:nvSpPr>
          <p:spPr>
            <a:xfrm>
              <a:off x="4800600" y="34290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Health S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ggiungi una cassa ros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in una città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a tua scel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700000">
              <a:off x="6705720" y="6248520"/>
              <a:ext cx="304560" cy="304560"/>
            </a:xfrm>
            <a:prstGeom prst="plus">
              <a:avLst>
                <a:gd name="adj" fmla="val 41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5410080" y="4343400"/>
              <a:ext cx="1006560" cy="93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2514600" y="228600"/>
            <a:ext cx="2286000" cy="3198960"/>
            <a:chOff x="2514600" y="228600"/>
            <a:chExt cx="2286000" cy="3198960"/>
          </a:xfrm>
        </p:grpSpPr>
        <p:sp>
          <p:nvSpPr>
            <p:cNvPr id="195" name=""/>
            <p:cNvSpPr/>
            <p:nvPr/>
          </p:nvSpPr>
          <p:spPr>
            <a:xfrm>
              <a:off x="2514600" y="228600"/>
              <a:ext cx="2286000" cy="31989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Hot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Bomb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Guadagni 1 punto per og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consegna effettu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in questa città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3200400" y="1676520"/>
              <a:ext cx="981000" cy="70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228600" y="228600"/>
            <a:ext cx="2286000" cy="3198960"/>
            <a:chOff x="228600" y="228600"/>
            <a:chExt cx="2286000" cy="3198960"/>
          </a:xfrm>
        </p:grpSpPr>
        <p:sp>
          <p:nvSpPr>
            <p:cNvPr id="198" name=""/>
            <p:cNvSpPr/>
            <p:nvPr/>
          </p:nvSpPr>
          <p:spPr>
            <a:xfrm>
              <a:off x="228600" y="228600"/>
              <a:ext cx="2286000" cy="31989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Hot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Del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Guadagni 1 punto per og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consegna effettu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in questa città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914400" y="1676520"/>
              <a:ext cx="981000" cy="70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7086600" y="228600"/>
            <a:ext cx="2286000" cy="3198960"/>
            <a:chOff x="7086600" y="228600"/>
            <a:chExt cx="2286000" cy="3198960"/>
          </a:xfrm>
        </p:grpSpPr>
        <p:sp>
          <p:nvSpPr>
            <p:cNvPr id="201" name=""/>
            <p:cNvSpPr/>
            <p:nvPr/>
          </p:nvSpPr>
          <p:spPr>
            <a:xfrm>
              <a:off x="7086600" y="228600"/>
              <a:ext cx="2286000" cy="31989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Hot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Calcut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Guadagni un punto per og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consegna effettu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in questa città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5"/>
            <a:stretch/>
          </p:blipFill>
          <p:spPr>
            <a:xfrm>
              <a:off x="7772400" y="1676520"/>
              <a:ext cx="981000" cy="70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4800600" y="228600"/>
            <a:ext cx="2286000" cy="3198960"/>
            <a:chOff x="4800600" y="228600"/>
            <a:chExt cx="2286000" cy="3198960"/>
          </a:xfrm>
        </p:grpSpPr>
        <p:sp>
          <p:nvSpPr>
            <p:cNvPr id="204" name=""/>
            <p:cNvSpPr/>
            <p:nvPr/>
          </p:nvSpPr>
          <p:spPr>
            <a:xfrm>
              <a:off x="4800600" y="228600"/>
              <a:ext cx="2286000" cy="31989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Hot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Mad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Guadagni 1 punto per og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consegna effettuat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in questa città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6"/>
            <a:stretch/>
          </p:blipFill>
          <p:spPr>
            <a:xfrm>
              <a:off x="5486400" y="1676520"/>
              <a:ext cx="981000" cy="70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228600" y="3429000"/>
            <a:ext cx="2286000" cy="3200400"/>
            <a:chOff x="228600" y="3429000"/>
            <a:chExt cx="2286000" cy="3200400"/>
          </a:xfrm>
        </p:grpSpPr>
        <p:sp>
          <p:nvSpPr>
            <p:cNvPr id="207" name=""/>
            <p:cNvSpPr/>
            <p:nvPr/>
          </p:nvSpPr>
          <p:spPr>
            <a:xfrm>
              <a:off x="228600" y="3429000"/>
              <a:ext cx="2286000" cy="319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Exp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Passa attraverso una città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del colore della cass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che deve essere consegn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762120" y="4419720"/>
              <a:ext cx="1238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057400" y="6172200"/>
              <a:ext cx="376200" cy="457200"/>
            </a:xfrm>
            <a:prstGeom prst="flowChartMultidocumen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086600" y="3429000"/>
            <a:ext cx="2286000" cy="3198960"/>
            <a:chOff x="7086600" y="3429000"/>
            <a:chExt cx="2286000" cy="3198960"/>
          </a:xfrm>
        </p:grpSpPr>
        <p:sp>
          <p:nvSpPr>
            <p:cNvPr id="211" name=""/>
            <p:cNvSpPr/>
            <p:nvPr/>
          </p:nvSpPr>
          <p:spPr>
            <a:xfrm>
              <a:off x="7086600" y="3429000"/>
              <a:ext cx="2286000" cy="31989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Hot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Karac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Guadagni 1 punto per og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consegna effettu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in questa città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8"/>
            <a:stretch/>
          </p:blipFill>
          <p:spPr>
            <a:xfrm>
              <a:off x="7772400" y="4876920"/>
              <a:ext cx="981000" cy="70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6:01:31Z</dcterms:created>
  <dc:creator>John Downing</dc:creator>
  <dc:description/>
  <dc:language>en-US</dc:language>
  <cp:lastModifiedBy>MNICOTRA</cp:lastModifiedBy>
  <cp:lastPrinted>2007-04-26T02:56:16Z</cp:lastPrinted>
  <dcterms:modified xsi:type="dcterms:W3CDTF">2007-10-15T14:12:18Z</dcterms:modified>
  <cp:revision>38</cp:revision>
  <dc:subject/>
  <dc:title>No Slide Title</dc:title>
</cp:coreProperties>
</file>